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128-98FB-48A5-B900-A71D5105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0E6-CE88-45B0-9357-A5977CE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431-C06F-4304-9884-D037D6FA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3B1-3F15-44A7-868F-99607B75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C47B-E2E4-4B04-8301-9C072260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53B-C157-4C0C-98B5-806E85B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39A-87B0-4D92-9586-6E6DF8A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CD17-6D0C-410A-9F98-633EE62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C347-602B-4226-B806-79D3784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EA00-6101-4368-AE7D-634641F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89D-6294-407C-903B-7E3FE15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8B6-E747-44CC-8B24-6032B50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DEA5-8D85-48E6-B1A2-CAA292E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1F9-D63F-495F-9665-DEC4FDFF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DFD-9F74-4451-825D-D8D559E8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D4B8-F46F-4C88-87EA-E7A9DD9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4A6-C165-4B21-A64D-EF860A02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101-079C-4D22-A588-E7C639A1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265-088F-461D-AC05-F7702FB1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9B4-58CB-42DC-8789-B62B9B57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C6F-07E3-413F-8EC5-DC5C076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144-77F9-4B63-B157-6735314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3F9-220C-4628-8EDD-7026279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992-280C-4491-B756-9F12FA6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2C2-9788-49B6-8B62-72822CDB8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42F-1FAC-40BF-B3C5-676699AFE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2000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ElectoralCollege2004.svg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sh’s Second Te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d immigration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candal amongst high-ranking offic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ized for government response to Hurricane Kat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200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John McC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bipartisan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War vete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candidate: Sarah Palin (Alaska govern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Barrack O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inois se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cession in his fav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ama wins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 American presi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eminist Revol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creased their presence in the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women with children work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ontinued to receive a lower pay than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1, 2001: two hijacked planes crashed into the twin towers of New York City’s World Tra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lane flew into Pentag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ne crashed in rural Pennsylvania, killing all passe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3,000 people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ad been spared from foreign attack on US soil for nearly 2 dec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45520" y="0"/>
            <a:ext cx="169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486400" cy="343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57400" y="3400560"/>
            <a:ext cx="552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Bush addressed Congress 9 day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ot tire, we will not falter, and we will not fail” until “we bring our enemies justice or bring justice to our enemi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principal enemy: Osama bin Laden, head of Al Qae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ntment of America’s economic, military &amp; cultural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resented US embargo against Iraq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 Resul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iban refused to hand bin 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h ordered massive military campaign against Afghanis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cal warfare: employing not just traditional warfare but also innovative intelligence gathering, economic reprisals &amp; infiltration of suspected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5641920"/>
            <a:ext cx="2171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at of Terror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ot Ac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mitted extensive telephone and email surveillance &amp; authorized detention &amp; deportation of immigrants suspected of terro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uantanamo Bay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merican military base in C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dreds of detainees connected w/ global war on terr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s sharply divided on whether terrorist threat fully warrants drastic encroachments on civil liber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in Iraq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h stated he would not tolerate Iraq’s defiance of UN weapons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dam’s removal was official goal of US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h accused Iraqi regime of oppressing its own people, frustrating the weapons inspectors, developing nuclear weapons of mass destruction &amp; supporting terrorist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2002- Congress passes resolution to employ armed force to defend against Iraqi threats to American national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03- invasion of Iraq beg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dam Hussein forced from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5- national elections h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200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George W. 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Child Left Behin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dated sanctions against schools that failed to meet federal performance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John K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War vete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as “flip-flopp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 wins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 &amp; unconte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4:33:48Z</dcterms:created>
  <dc:creator>emily.johnson</dc:creator>
  <dc:description/>
  <dc:language>en-US</dc:language>
  <cp:lastModifiedBy>emily.johnson</cp:lastModifiedBy>
  <dcterms:modified xsi:type="dcterms:W3CDTF">2013-04-30T18:18:32Z</dcterms:modified>
  <cp:revision>5</cp:revision>
  <dc:subject/>
  <dc:title>The 2000s</dc:title>
</cp:coreProperties>
</file>